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FF0-ED05-4DF7-AB16-E72ADA4C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D50-C976-4E88-BA00-C95C2187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BCF-BD0C-4707-BE93-155C211C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E0F-7140-43F8-8DFF-CE5361E9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DED-B395-4C0A-A532-2ED54CF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AFA-F5A9-42EE-8CE4-5DBE9BA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FCE-4687-4D74-A1FB-503663E3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616-09CA-496B-8AEC-8ABA4E4D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855-A058-49F9-9EBD-ABC43C2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0D7-2F7D-41D0-9E4A-33BF168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C4B-CA43-480B-919C-CC6EF35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166-25A0-4430-AC99-82F0CA7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B830-99E6-4863-9B92-40DBE7B4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ucmp.berkeley.edu/bacteria/nostoc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lbertus Medium"/>
              </a:rPr>
              <a:t>Nitrogen Cyc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lbertus Medium"/>
              </a:rPr>
              <a:t>Ammonification or Miner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1911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514600" y="3200400"/>
            <a:ext cx="1371600" cy="9144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4648320"/>
            <a:ext cx="2286000" cy="1218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2590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74320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35268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5867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819160" y="617220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57150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133720" y="31240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914400" y="5638320"/>
            <a:ext cx="533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181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38080" y="304776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514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14400" y="190512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523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9810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lbertus Medium"/>
              </a:rPr>
              <a:t>Mineralization or Ammo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Decomposers: earthworms, termites, slugs, snails, bacteria, and fun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Uses extracellular enzym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initiate degradation of plant poly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Microorganisms 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roteases, lysozymes, nucleases to degrade nitrogen containing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worml" descr="worm"/>
          <p:cNvPicPr/>
          <p:nvPr/>
        </p:nvPicPr>
        <p:blipFill>
          <a:blip r:embed="rId1"/>
          <a:stretch/>
        </p:blipFill>
        <p:spPr>
          <a:xfrm>
            <a:off x="4800600" y="5334120"/>
            <a:ext cx="1844640" cy="1245960"/>
          </a:xfrm>
          <a:prstGeom prst="rect">
            <a:avLst/>
          </a:prstGeom>
          <a:ln w="0">
            <a:noFill/>
          </a:ln>
        </p:spPr>
      </p:pic>
      <p:pic>
        <p:nvPicPr>
          <p:cNvPr id="97" name="omeater" descr="bug"/>
          <p:cNvPicPr/>
          <p:nvPr/>
        </p:nvPicPr>
        <p:blipFill>
          <a:blip r:embed="rId2"/>
          <a:stretch/>
        </p:blipFill>
        <p:spPr>
          <a:xfrm>
            <a:off x="7391520" y="2438280"/>
            <a:ext cx="1349280" cy="185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lants die or bacterial cells ly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release of organic nitro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Organic nitrogen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is converted to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inorganic nitrogen 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When pH&lt;7.5, converted rapidly to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Urea            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 2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952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Immo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The opposite of mi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Happens when nitrogen is limiting in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Nitrogen limitation is governed by C/N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C/N typical for soil microbial biomass is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C/N &lt; 20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Mi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C/N &gt; 20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Immob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lbertus Medium"/>
              </a:rPr>
              <a:t>Nitrogen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3434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14600" y="3352680"/>
            <a:ext cx="137160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4800600"/>
            <a:ext cx="22860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2743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89548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7432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5053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6019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19160" y="632448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8672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133720" y="327636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914400" y="5791320"/>
            <a:ext cx="5335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8080" y="320004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914400" y="205740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676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133720"/>
            <a:ext cx="0" cy="533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ogen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Energy intensive proces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lbertus Medium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+ 8H+ + 8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lbertus Medium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+ </a:t>
            </a:r>
            <a:r>
              <a:rPr b="1" lang="en-US" sz="2800" spc="-1" strike="noStrike">
                <a:solidFill>
                  <a:srgbClr val="ff3300"/>
                </a:solidFill>
                <a:latin typeface="Albertus Medium"/>
              </a:rPr>
              <a:t>16 ATP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= 2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lbertus Medium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+ 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lbertus Medium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+ 16ADP + 16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erformed only by selected bacteria and actinomyc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Performed in nitrogen fixing c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(ex: soybe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Microorganisms fi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Azob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Beijerinc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Azospiril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Clostri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Require the enzyme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nitroge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Inhibited by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Inhibited by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ammonia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(end produ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Rates of Nitrogen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lbertus Medium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fixing sy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itrogen Fixation (kg N/hect/ye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Rhizobium-leg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200-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Cyanobacteria- m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30-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Rhizosphere associ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2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Free-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nostoc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927240" cy="2911320"/>
          </a:xfrm>
          <a:prstGeom prst="rect">
            <a:avLst/>
          </a:prstGeom>
          <a:ln w="0">
            <a:noFill/>
          </a:ln>
        </p:spPr>
      </p:pic>
      <p:pic>
        <p:nvPicPr>
          <p:cNvPr id="130" name="oscillatoria2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65480" cy="27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Applications to wet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Occur in overlying wa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Aerobic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Anaerobic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Oxidized rhiz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Leaf or stem surfaces of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Light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norganic fertil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ogen Fix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nimal Resi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Crop resid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rganic fertil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2286000"/>
            <a:ext cx="373356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Bacterial Fix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ccurs mostly in salt mar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s absent from low pH peat of northern b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Cyanobacteria found in waterlogge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lbertus Medium"/>
              </a:rPr>
              <a:t>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4197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514600" y="3429000"/>
            <a:ext cx="137160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876920"/>
            <a:ext cx="221004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8195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971800"/>
            <a:ext cx="4572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819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3581280"/>
            <a:ext cx="0" cy="2057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5943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19160" y="6400800"/>
            <a:ext cx="426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9436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33720" y="33526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14400" y="5866920"/>
            <a:ext cx="53352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38080" y="327636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743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914400" y="2133720"/>
            <a:ext cx="533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752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2096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Two step reactions that occur togeth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rst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step catalyzed by </a:t>
            </a: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Nitrosom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2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 3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2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O+ 4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lbertus Medium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step catalyzed by </a:t>
            </a:r>
            <a:r>
              <a:rPr b="0" i="1" lang="en-US" sz="2800" spc="-1" strike="noStrike">
                <a:solidFill>
                  <a:srgbClr val="000000"/>
                </a:solidFill>
                <a:latin typeface="Albertus Medium"/>
              </a:rPr>
              <a:t>Nitrob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2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+ </a:t>
            </a:r>
            <a:r>
              <a:rPr b="0" lang="en-US" sz="2800" spc="-1" strike="noStrike">
                <a:solidFill>
                  <a:srgbClr val="ff3300"/>
                </a:solidFill>
                <a:latin typeface="Albertus Medium"/>
              </a:rPr>
              <a:t>O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lbertus Medium"/>
              </a:rPr>
              <a:t> 2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2800" spc="-1" strike="noStrike" baseline="48000">
                <a:solidFill>
                  <a:srgbClr val="000000"/>
                </a:solidFill>
                <a:latin typeface="Albertus Medium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ptimal pH is between </a:t>
            </a: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6.6-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f pH &lt; 6.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rate is s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f pH &lt; 4.5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reaction is inhib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419112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lbertus Medium"/>
              </a:rPr>
              <a:t>In which type of wetlands do you thing Nitrification occ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lbertus Medium"/>
              </a:rPr>
              <a:t>De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26708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3276720"/>
            <a:ext cx="137160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724280"/>
            <a:ext cx="228600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2819520"/>
            <a:ext cx="457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2666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34290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5943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19160" y="6248520"/>
            <a:ext cx="42670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791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3720" y="32004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914400" y="5714640"/>
            <a:ext cx="53352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5257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38080" y="3123720"/>
            <a:ext cx="0" cy="2057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590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14400" y="1980720"/>
            <a:ext cx="533520" cy="381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1600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Denit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Removes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a limiting nutrient from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4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3200" spc="-1" strike="noStrike" baseline="48000">
                <a:solidFill>
                  <a:srgbClr val="000000"/>
                </a:solidFill>
                <a:latin typeface="Albertus Medium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2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+ 6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nhibited by </a:t>
            </a: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ot inhibited by </a:t>
            </a:r>
            <a:r>
              <a:rPr b="0" lang="en-US" sz="3200" spc="-1" strike="noStrike">
                <a:solidFill>
                  <a:srgbClr val="ff3300"/>
                </a:solidFill>
                <a:latin typeface="Albertus Medium"/>
              </a:rPr>
              <a:t>ammo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Microbi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ate is the terminal electron 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lbertus Medium"/>
              </a:rPr>
              <a:t>Looking at the Nitrogen cycle through the eye of NH</a:t>
            </a:r>
            <a:r>
              <a:rPr b="1" lang="en-US" sz="4400" spc="-1" strike="noStrike" baseline="-25000">
                <a:solidFill>
                  <a:srgbClr val="ffff99"/>
                </a:solidFill>
                <a:latin typeface="Albertus Medium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286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31pic3" descr="Nitogen cycling in wetlan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657600"/>
            <a:ext cx="92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6002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14400"/>
            <a:ext cx="9144000" cy="647640"/>
          </a:xfrm>
          <a:custGeom>
            <a:avLst/>
            <a:gdLst/>
            <a:ahLst/>
            <a:rect l="l" t="t" r="r" b="b"/>
            <a:pathLst>
              <a:path w="5760" h="408">
                <a:moveTo>
                  <a:pt x="0" y="360"/>
                </a:moveTo>
                <a:cubicBezTo>
                  <a:pt x="116" y="236"/>
                  <a:pt x="232" y="112"/>
                  <a:pt x="384" y="120"/>
                </a:cubicBezTo>
                <a:cubicBezTo>
                  <a:pt x="536" y="128"/>
                  <a:pt x="752" y="408"/>
                  <a:pt x="912" y="408"/>
                </a:cubicBezTo>
                <a:cubicBezTo>
                  <a:pt x="1072" y="408"/>
                  <a:pt x="1184" y="128"/>
                  <a:pt x="1344" y="120"/>
                </a:cubicBezTo>
                <a:cubicBezTo>
                  <a:pt x="1504" y="112"/>
                  <a:pt x="1720" y="360"/>
                  <a:pt x="1872" y="360"/>
                </a:cubicBezTo>
                <a:cubicBezTo>
                  <a:pt x="2024" y="360"/>
                  <a:pt x="2120" y="120"/>
                  <a:pt x="2256" y="120"/>
                </a:cubicBezTo>
                <a:cubicBezTo>
                  <a:pt x="2392" y="120"/>
                  <a:pt x="2568" y="368"/>
                  <a:pt x="2688" y="360"/>
                </a:cubicBezTo>
                <a:cubicBezTo>
                  <a:pt x="2808" y="352"/>
                  <a:pt x="2856" y="72"/>
                  <a:pt x="2976" y="72"/>
                </a:cubicBezTo>
                <a:cubicBezTo>
                  <a:pt x="3096" y="72"/>
                  <a:pt x="3288" y="360"/>
                  <a:pt x="3408" y="360"/>
                </a:cubicBezTo>
                <a:cubicBezTo>
                  <a:pt x="3528" y="360"/>
                  <a:pt x="3576" y="72"/>
                  <a:pt x="3696" y="72"/>
                </a:cubicBezTo>
                <a:cubicBezTo>
                  <a:pt x="3816" y="72"/>
                  <a:pt x="4016" y="360"/>
                  <a:pt x="4128" y="360"/>
                </a:cubicBezTo>
                <a:cubicBezTo>
                  <a:pt x="4240" y="360"/>
                  <a:pt x="4272" y="72"/>
                  <a:pt x="4368" y="72"/>
                </a:cubicBezTo>
                <a:cubicBezTo>
                  <a:pt x="4464" y="72"/>
                  <a:pt x="4616" y="360"/>
                  <a:pt x="4704" y="360"/>
                </a:cubicBezTo>
                <a:cubicBezTo>
                  <a:pt x="4792" y="360"/>
                  <a:pt x="4800" y="72"/>
                  <a:pt x="4896" y="72"/>
                </a:cubicBezTo>
                <a:cubicBezTo>
                  <a:pt x="4992" y="72"/>
                  <a:pt x="5176" y="368"/>
                  <a:pt x="5280" y="360"/>
                </a:cubicBezTo>
                <a:cubicBezTo>
                  <a:pt x="5384" y="352"/>
                  <a:pt x="5440" y="48"/>
                  <a:pt x="5520" y="24"/>
                </a:cubicBezTo>
                <a:cubicBezTo>
                  <a:pt x="5600" y="0"/>
                  <a:pt x="5720" y="184"/>
                  <a:pt x="5760" y="216"/>
                </a:cubicBezTo>
              </a:path>
            </a:pathLst>
          </a:cu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xidize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191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duced soi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57150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14600" y="320040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743200"/>
            <a:ext cx="129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Low 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low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0384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lbertus Medium"/>
              </a:rPr>
              <a:t>Biodegra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428640" y="5105520"/>
            <a:ext cx="2514600" cy="838080"/>
          </a:xfrm>
          <a:prstGeom prst="line">
            <a:avLst/>
          </a:prstGeom>
          <a:ln w="572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5334120"/>
            <a:ext cx="457200" cy="53316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lbertus Medium"/>
              </a:rPr>
              <a:t>C/N &l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lbertus Medium"/>
              </a:rPr>
              <a:t>C/N &gt;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92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6002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914400"/>
            <a:ext cx="9144000" cy="647640"/>
          </a:xfrm>
          <a:custGeom>
            <a:avLst/>
            <a:gdLst/>
            <a:ahLst/>
            <a:rect l="l" t="t" r="r" b="b"/>
            <a:pathLst>
              <a:path w="5760" h="408">
                <a:moveTo>
                  <a:pt x="0" y="360"/>
                </a:moveTo>
                <a:cubicBezTo>
                  <a:pt x="116" y="236"/>
                  <a:pt x="232" y="112"/>
                  <a:pt x="384" y="120"/>
                </a:cubicBezTo>
                <a:cubicBezTo>
                  <a:pt x="536" y="128"/>
                  <a:pt x="752" y="408"/>
                  <a:pt x="912" y="408"/>
                </a:cubicBezTo>
                <a:cubicBezTo>
                  <a:pt x="1072" y="408"/>
                  <a:pt x="1184" y="128"/>
                  <a:pt x="1344" y="120"/>
                </a:cubicBezTo>
                <a:cubicBezTo>
                  <a:pt x="1504" y="112"/>
                  <a:pt x="1720" y="360"/>
                  <a:pt x="1872" y="360"/>
                </a:cubicBezTo>
                <a:cubicBezTo>
                  <a:pt x="2024" y="360"/>
                  <a:pt x="2120" y="120"/>
                  <a:pt x="2256" y="120"/>
                </a:cubicBezTo>
                <a:cubicBezTo>
                  <a:pt x="2392" y="120"/>
                  <a:pt x="2568" y="368"/>
                  <a:pt x="2688" y="360"/>
                </a:cubicBezTo>
                <a:cubicBezTo>
                  <a:pt x="2808" y="352"/>
                  <a:pt x="2856" y="72"/>
                  <a:pt x="2976" y="72"/>
                </a:cubicBezTo>
                <a:cubicBezTo>
                  <a:pt x="3096" y="72"/>
                  <a:pt x="3288" y="360"/>
                  <a:pt x="3408" y="360"/>
                </a:cubicBezTo>
                <a:cubicBezTo>
                  <a:pt x="3528" y="360"/>
                  <a:pt x="3576" y="72"/>
                  <a:pt x="3696" y="72"/>
                </a:cubicBezTo>
                <a:cubicBezTo>
                  <a:pt x="3816" y="72"/>
                  <a:pt x="4016" y="360"/>
                  <a:pt x="4128" y="360"/>
                </a:cubicBezTo>
                <a:cubicBezTo>
                  <a:pt x="4240" y="360"/>
                  <a:pt x="4272" y="72"/>
                  <a:pt x="4368" y="72"/>
                </a:cubicBezTo>
                <a:cubicBezTo>
                  <a:pt x="4464" y="72"/>
                  <a:pt x="4616" y="360"/>
                  <a:pt x="4704" y="360"/>
                </a:cubicBezTo>
                <a:cubicBezTo>
                  <a:pt x="4792" y="360"/>
                  <a:pt x="4800" y="72"/>
                  <a:pt x="4896" y="72"/>
                </a:cubicBezTo>
                <a:cubicBezTo>
                  <a:pt x="4992" y="72"/>
                  <a:pt x="5176" y="368"/>
                  <a:pt x="5280" y="360"/>
                </a:cubicBezTo>
                <a:cubicBezTo>
                  <a:pt x="5384" y="352"/>
                  <a:pt x="5440" y="48"/>
                  <a:pt x="5520" y="24"/>
                </a:cubicBezTo>
                <a:cubicBezTo>
                  <a:pt x="5600" y="0"/>
                  <a:pt x="5720" y="184"/>
                  <a:pt x="5760" y="216"/>
                </a:cubicBezTo>
              </a:path>
            </a:pathLst>
          </a:cu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xidize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4191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duced soi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5715000"/>
            <a:ext cx="144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514600" y="3200400"/>
            <a:ext cx="0" cy="2362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43200"/>
            <a:ext cx="129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Low [N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4648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low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1240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1599480"/>
            <a:ext cx="1981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7524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2895480"/>
            <a:ext cx="1676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9snitcyc" descr="{short description of image}"/>
          <p:cNvPicPr/>
          <p:nvPr/>
        </p:nvPicPr>
        <p:blipFill>
          <a:blip r:embed="rId1"/>
          <a:stretch/>
        </p:blipFill>
        <p:spPr>
          <a:xfrm>
            <a:off x="1303200" y="1235160"/>
            <a:ext cx="6537600" cy="438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657600"/>
            <a:ext cx="929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002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14400"/>
            <a:ext cx="9144000" cy="647640"/>
          </a:xfrm>
          <a:custGeom>
            <a:avLst/>
            <a:gdLst/>
            <a:ahLst/>
            <a:rect l="l" t="t" r="r" b="b"/>
            <a:pathLst>
              <a:path w="5760" h="408">
                <a:moveTo>
                  <a:pt x="0" y="360"/>
                </a:moveTo>
                <a:cubicBezTo>
                  <a:pt x="116" y="236"/>
                  <a:pt x="232" y="112"/>
                  <a:pt x="384" y="120"/>
                </a:cubicBezTo>
                <a:cubicBezTo>
                  <a:pt x="536" y="128"/>
                  <a:pt x="752" y="408"/>
                  <a:pt x="912" y="408"/>
                </a:cubicBezTo>
                <a:cubicBezTo>
                  <a:pt x="1072" y="408"/>
                  <a:pt x="1184" y="128"/>
                  <a:pt x="1344" y="120"/>
                </a:cubicBezTo>
                <a:cubicBezTo>
                  <a:pt x="1504" y="112"/>
                  <a:pt x="1720" y="360"/>
                  <a:pt x="1872" y="360"/>
                </a:cubicBezTo>
                <a:cubicBezTo>
                  <a:pt x="2024" y="360"/>
                  <a:pt x="2120" y="120"/>
                  <a:pt x="2256" y="120"/>
                </a:cubicBezTo>
                <a:cubicBezTo>
                  <a:pt x="2392" y="120"/>
                  <a:pt x="2568" y="368"/>
                  <a:pt x="2688" y="360"/>
                </a:cubicBezTo>
                <a:cubicBezTo>
                  <a:pt x="2808" y="352"/>
                  <a:pt x="2856" y="72"/>
                  <a:pt x="2976" y="72"/>
                </a:cubicBezTo>
                <a:cubicBezTo>
                  <a:pt x="3096" y="72"/>
                  <a:pt x="3288" y="360"/>
                  <a:pt x="3408" y="360"/>
                </a:cubicBezTo>
                <a:cubicBezTo>
                  <a:pt x="3528" y="360"/>
                  <a:pt x="3576" y="72"/>
                  <a:pt x="3696" y="72"/>
                </a:cubicBezTo>
                <a:cubicBezTo>
                  <a:pt x="3816" y="72"/>
                  <a:pt x="4016" y="360"/>
                  <a:pt x="4128" y="360"/>
                </a:cubicBezTo>
                <a:cubicBezTo>
                  <a:pt x="4240" y="360"/>
                  <a:pt x="4272" y="72"/>
                  <a:pt x="4368" y="72"/>
                </a:cubicBezTo>
                <a:cubicBezTo>
                  <a:pt x="4464" y="72"/>
                  <a:pt x="4616" y="360"/>
                  <a:pt x="4704" y="360"/>
                </a:cubicBezTo>
                <a:cubicBezTo>
                  <a:pt x="4792" y="360"/>
                  <a:pt x="4800" y="72"/>
                  <a:pt x="4896" y="72"/>
                </a:cubicBezTo>
                <a:cubicBezTo>
                  <a:pt x="4992" y="72"/>
                  <a:pt x="5176" y="368"/>
                  <a:pt x="5280" y="360"/>
                </a:cubicBezTo>
                <a:cubicBezTo>
                  <a:pt x="5384" y="352"/>
                  <a:pt x="5440" y="48"/>
                  <a:pt x="5520" y="24"/>
                </a:cubicBezTo>
                <a:cubicBezTo>
                  <a:pt x="5600" y="0"/>
                  <a:pt x="5720" y="184"/>
                  <a:pt x="5760" y="216"/>
                </a:cubicBezTo>
              </a:path>
            </a:pathLst>
          </a:custGeom>
          <a:noFill/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8195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Oxidized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191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duced soi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2819520"/>
            <a:ext cx="167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8098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0600" y="4038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L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5410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[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]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5638680"/>
            <a:ext cx="1828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696080" y="2362320"/>
            <a:ext cx="0" cy="3047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1523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lbertus Medium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Denit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219320" y="1523880"/>
            <a:ext cx="5543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QUESTIONS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Forms of Nit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Ur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CO(NH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mon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H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(gase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mon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H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a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O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NO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tmospheric Dinitroge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lbertus Mediu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rganic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Global Nitrogen Reservoi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1600200"/>
          <a:ext cx="7772400" cy="4818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itrogen Reservo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Metric tons 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Actively cycl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Atm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3.9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Ocea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soluble sal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Biom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6.9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5.2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Land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organic ma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Bio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1.1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2.5*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lbertus Medium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S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lbertus Medium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Roles of Nit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Plants and bacteria use nitrogen in the form of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lbertus Medium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or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lbertus Medium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lbertus Medium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t serves as an electron acceptor in anaerobic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ogen is often the most limiting nutrient in soil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ogen is a key element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ucleic acids (purine, pyrimidin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cell wall components of bacteria (N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edium"/>
              </a:rPr>
              <a:t>Nitroge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mmonification/miner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Im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ogen Fix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Nit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Denit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09480"/>
            <a:ext cx="8305920" cy="4853520"/>
            <a:chOff x="0" y="609480"/>
            <a:chExt cx="8305920" cy="4853520"/>
          </a:xfrm>
        </p:grpSpPr>
        <p:sp>
          <p:nvSpPr>
            <p:cNvPr id="57" name=""/>
            <p:cNvSpPr/>
            <p:nvPr/>
          </p:nvSpPr>
          <p:spPr>
            <a:xfrm>
              <a:off x="3733920" y="3276720"/>
              <a:ext cx="160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R-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209680" y="2286000"/>
              <a:ext cx="137160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6920" y="3733920"/>
              <a:ext cx="228600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9320" y="16765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720" y="1828800"/>
              <a:ext cx="457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86600" y="1676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0120" y="24382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2920" y="4952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514240" y="5257800"/>
              <a:ext cx="426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48006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828800" y="22096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09480" y="4723920"/>
              <a:ext cx="5335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267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33520" y="213336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600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480" y="990720"/>
              <a:ext cx="5335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60948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Medium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lbertus Mediu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6520" y="106668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4:12:08Z</dcterms:created>
  <dc:creator>Karen Josephson</dc:creator>
  <dc:description/>
  <dc:language>en-US</dc:language>
  <cp:lastModifiedBy>Karen Josephson</cp:lastModifiedBy>
  <dcterms:modified xsi:type="dcterms:W3CDTF">2002-11-07T12:58:03Z</dcterms:modified>
  <cp:revision>49</cp:revision>
  <dc:subject/>
  <dc:title>Nitrogen Cycle</dc:title>
</cp:coreProperties>
</file>